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7CF-BC04-44E6-BF18-6EAE64B3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2CF-5DF8-4CBB-ACC1-EA1A7F5A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366-4409-451F-B028-AAD33096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CCE-7C3E-4C36-B67B-CA2E84D9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F37-5D0F-4660-B8ED-7145383F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1A1-F33C-4318-9F93-5B0111A5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1A2-6486-421D-9D69-E34A984B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C14-EC13-4B95-A734-F18B212A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30C1-D3A6-4556-8FAD-49FCE524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66A-6F42-4867-BC58-258EA066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A52-A94F-4624-B1E8-0395BA08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7C5-A641-4C3B-ACCC-28C02978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F1FF-118C-4279-9D2B-DBDCFE1C5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AQE41DvHofs" TargetMode="External"/><Relationship Id="rId3" Type="http://schemas.openxmlformats.org/officeDocument/2006/relationships/hyperlink" Target="http://www.youtube.com/watch?v=YVvBEFOj_T8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ka 3D z użyci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3D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940000" y="5949720"/>
            <a:ext cx="27687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r: Adam Więcko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szerzenie dla środowiska uruchomieniowego Java Runtim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feruje obsługę grafiki 2D 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starcza bibliotekę opartą na Open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starcza API umożliwiający dostęp do funkcji i obiektów graficznych na wysokim poziomie abstrak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wala na wyświetlanie obiektów w czasie rzeczywistym oraz interakcję z ni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korzystanie OpenGL umożliwia uzyskanie wysokiej jakości renderowanych s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sługiwane są funkcje takie jak antyaliasing, filtrowanie anizotropowe, cieniowanie, dynamiczne oświetl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wala to na tworzenie przeróżnych aplikacji, zarówno wizualizacji różnego rodzaju symulacji czy też gier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k samo jak Java biblioteki i interfejs są niezależne od systemu operacyjnego – Java 3D dostępna jest pod Windowsa, Linuksa, MacOSa i Solar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liwe jest tworzenie appletów, które mogą być uruchamiane w przeglądarce internetowej poprzez dołączenie biblioteki do aplik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81440" y="292392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518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zykłady uży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AQE41DvH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youtube.com/watch?v=YVvBEFOj_T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7:22:34Z</dcterms:created>
  <dc:creator>Adam</dc:creator>
  <dc:description/>
  <dc:language>en-US</dc:language>
  <cp:lastModifiedBy>Adam Więckowski</cp:lastModifiedBy>
  <dcterms:modified xsi:type="dcterms:W3CDTF">2013-06-02T21:56:35Z</dcterms:modified>
  <cp:revision>56</cp:revision>
  <dc:subject/>
  <dc:title>Karty chipowe</dc:title>
</cp:coreProperties>
</file>